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AC958-8986-4D29-8695-E73E8BA53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20799-4392-4767-873A-9FA6C07C2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546C1-EC06-47FC-AE50-C64FC22B9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B1C21-2FC6-4B6F-BDFA-F42C2A359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44820-7302-4C4F-9B29-3067AE275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D36AE-9316-4887-80AB-0E99472AF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F1B4C-9611-4ACB-85D4-B9ABDB4FF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C4814-0CB2-41EF-8D52-60CFCD9E5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E0F5D-8782-439A-9E7C-5B5B5102A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4811F-383E-424A-81C9-0D9D40C93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8B32A-60CD-4AD0-BF89-99E8CD91A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D3546-C826-4664-9347-FDB4A449C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85AA-F513-48EF-A91D-E7CD1C6B1B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4" name=""/>
          <p:cNvSpPr txBox="1"/>
          <p:nvPr/>
        </p:nvSpPr>
        <p:spPr>
          <a:xfrm>
            <a:off x="1835280" y="4437000"/>
            <a:ext cx="52387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 - Iulie</a:t>
            </a:r>
            <a:endParaRPr b="0" lang="en-US" sz="1800" spc="1" strike="noStrike">
              <a:ln w="9360">
                <a:solidFill>
                  <a:srgbClr val="000000"/>
                </a:solidFill>
                <a:miter/>
              </a:ln>
              <a:solidFill>
                <a:srgbClr val="ffffff"/>
              </a:solidFill>
              <a:latin typeface="Arial Black"/>
              <a:ea typeface="Arial Black"/>
            </a:endParaRPr>
          </a:p>
        </p:txBody>
      </p:sp>
    </p:spTree>
  </p:cSld>
  <p:transition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7f717"/>
            </a:gs>
            <a:gs pos="50000">
              <a:srgbClr val="fb1313"/>
            </a:gs>
            <a:gs pos="100000">
              <a:srgbClr val="d7f717"/>
            </a:gs>
          </a:gsLst>
          <a:lin ang="13500000"/>
        </a:gradFill>
      </p:bgPr>
    </p:bg>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pic>
        <p:nvPicPr>
          <p:cNvPr id="46" name="Picture 9" descr="comp_i"/>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5</cp:lastModifiedBy>
  <dcterms:modified xsi:type="dcterms:W3CDTF">2012-06-18T11:06:21Z</dcterms:modified>
  <cp:revision>45</cp:revision>
  <dc:subject/>
  <dc:title>SALARIUL</dc:title>
</cp:coreProperties>
</file>